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BA8-B087-4173-854D-4964D3B8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E24-5107-4772-B623-C7BB8DA1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04D-9C70-40C2-9113-3BCEB77B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C93-DE16-4C50-8A5E-82C4F39C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A9BC-7EDD-41B3-AB1A-0E195109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1CB7-F313-423E-88D4-20E814F6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6B6F-9C9A-4384-B6D8-89476D98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BA75-B301-4998-9CA4-3CF7C8D9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92B1-A682-4363-ADA8-79C6369F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EC5A-BFA9-47C2-8F85-CD64E410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8782-12E7-4643-A05E-B508612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5EA-781F-43DA-AFFD-156C2015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BF17-15CF-4F02-BBE1-5425C6B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3F99-9C3D-4798-99EE-1371A5CB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6DC4-1A20-44DB-B8D2-8B9F5F16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E48A-9966-4EE6-B0EC-4990D7B5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DD6F-45F8-4E5B-93F1-F52140C3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4B1-84B8-4BDB-9765-FF11B96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365-655A-4272-8E95-EFFC6ACD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3CC-ED68-4DD5-8F71-DB931A04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0B9-F2E4-4CC6-A055-8B4D5B0F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39E-1816-4C34-97BD-D38C4E73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9F8-810A-49FA-8A6F-A0522628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62F-2CD0-4E4A-95F7-CC62B1A0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E692-DBE6-4E95-AC20-BA3CEFAB7F87}" type="datetime3">
              <a:rPr b="0" lang="en-GB" sz="1000" spc="-1" strike="noStrike">
                <a:solidFill>
                  <a:srgbClr val="ffff00"/>
                </a:solidFill>
                <a:latin typeface="Comic Sans MS"/>
              </a:rPr>
              <a:t>31 July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CD28-753D-4A3A-AA5F-3764C8EFFEF2}" type="slidenum">
              <a:rPr b="0" lang="en-GB" sz="16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5DE0-3BA0-47AF-9E4E-9526E2659C3B}" type="datetime3">
              <a:rPr b="0" lang="en-GB" sz="1000" spc="-1" strike="noStrike">
                <a:solidFill>
                  <a:srgbClr val="ffff00"/>
                </a:solidFill>
                <a:latin typeface="Comic Sans MS"/>
              </a:rPr>
              <a:t>31 July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FC7A-C734-49F1-91C7-68E9672AED28}" type="slidenum">
              <a:rPr b="0" lang="en-GB" sz="10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1.gif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rd Year Starter Quest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6200000">
            <a:off x="-1560600" y="409932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. Andrew’s 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560" y="11253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41760" y="2085840"/>
          <a:ext cx="1923840" cy="6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41760" y="2085840"/>
                    <a:ext cx="19238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006200" y="213984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Q1.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al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2882880"/>
            <a:ext cx="763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Q2.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If 1 bar of chocolate costs 45p. How much w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100 bars cost. Give your answer in £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73440" y="4305240"/>
          <a:ext cx="352440" cy="41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73440" y="4305240"/>
                    <a:ext cx="352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136160" y="36972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Q3.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Find the order of rotation of the le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8240" y="483552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Q4.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549600" y="5249880"/>
          <a:ext cx="158760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49600" y="5249880"/>
                    <a:ext cx="15876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eated by Mr. Lafferty Maths Dept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FB3C072-4DC9-4ED3-9E27-E80D5846D3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im of the Less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560600" y="409932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. Andrew’s 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560" y="11253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55880" y="3252960"/>
            <a:ext cx="75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work ou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mple intervals from a given sc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eated by Mr. Lafferty Maths Dept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C8A0B5C-B106-49FA-8B32-0DB2368C33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793520" y="2360520"/>
            <a:ext cx="5127120" cy="722160"/>
            <a:chOff x="1793520" y="2360520"/>
            <a:chExt cx="5127120" cy="722160"/>
          </a:xfrm>
        </p:grpSpPr>
        <p:grpSp>
          <p:nvGrpSpPr>
            <p:cNvPr id="130" name=""/>
            <p:cNvGrpSpPr/>
            <p:nvPr/>
          </p:nvGrpSpPr>
          <p:grpSpPr>
            <a:xfrm>
              <a:off x="1930320" y="2360520"/>
              <a:ext cx="1579680" cy="306360"/>
              <a:chOff x="1930320" y="2360520"/>
              <a:chExt cx="1579680" cy="306360"/>
            </a:xfrm>
          </p:grpSpPr>
          <p:sp>
            <p:nvSpPr>
              <p:cNvPr id="131" name=""/>
              <p:cNvSpPr/>
              <p:nvPr/>
            </p:nvSpPr>
            <p:spPr>
              <a:xfrm>
                <a:off x="193032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4316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6356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7820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9392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511440" y="2360520"/>
              <a:ext cx="1579680" cy="306360"/>
              <a:chOff x="3511440" y="2360520"/>
              <a:chExt cx="1579680" cy="306360"/>
            </a:xfrm>
          </p:grpSpPr>
          <p:sp>
            <p:nvSpPr>
              <p:cNvPr id="137" name=""/>
              <p:cNvSpPr/>
              <p:nvPr/>
            </p:nvSpPr>
            <p:spPr>
              <a:xfrm>
                <a:off x="351144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2428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4468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5932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7504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092560" y="2360520"/>
              <a:ext cx="1579680" cy="306360"/>
              <a:chOff x="5092560" y="2360520"/>
              <a:chExt cx="1579680" cy="306360"/>
            </a:xfrm>
          </p:grpSpPr>
          <p:sp>
            <p:nvSpPr>
              <p:cNvPr id="143" name=""/>
              <p:cNvSpPr/>
              <p:nvPr/>
            </p:nvSpPr>
            <p:spPr>
              <a:xfrm>
                <a:off x="509256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0540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2580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4044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5616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793520" y="2714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90760" y="2714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77640" y="2714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7840" y="2714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067480" y="1897200"/>
            <a:ext cx="519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me scales do not show all the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74680" y="3002040"/>
            <a:ext cx="697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ou must work out what number goes next to each 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n the sc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2400" y="3890880"/>
            <a:ext cx="72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w do we work out the numbers to go beside each mark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41480" y="677880"/>
            <a:ext cx="16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40520" y="4422600"/>
            <a:ext cx="60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tep 1: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unt the number of steps between nu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56160" y="4879800"/>
            <a:ext cx="51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 this case it takes 5 steps to get from 0 to 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9200" y="536256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tep 2: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o the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5600" y="5732640"/>
            <a:ext cx="39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“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e difference between number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23040" y="5732640"/>
          <a:ext cx="3808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3040" y="573264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1040" y="573264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by the  step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60920" y="6100920"/>
          <a:ext cx="289548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0920" y="6100920"/>
                    <a:ext cx="2895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116800" y="2635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83200" y="2635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6280" y="2635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3800" y="2635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574800" y="2635200"/>
            <a:ext cx="1387800" cy="307080"/>
            <a:chOff x="3574800" y="2635200"/>
            <a:chExt cx="1387800" cy="307080"/>
          </a:xfrm>
        </p:grpSpPr>
        <p:sp>
          <p:nvSpPr>
            <p:cNvPr id="170" name=""/>
            <p:cNvSpPr/>
            <p:nvPr/>
          </p:nvSpPr>
          <p:spPr>
            <a:xfrm>
              <a:off x="357480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568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504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776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75000" y="2635200"/>
            <a:ext cx="1387800" cy="307080"/>
            <a:chOff x="5175000" y="2635200"/>
            <a:chExt cx="1387800" cy="307080"/>
          </a:xfrm>
        </p:grpSpPr>
        <p:sp>
          <p:nvSpPr>
            <p:cNvPr id="175" name=""/>
            <p:cNvSpPr/>
            <p:nvPr/>
          </p:nvSpPr>
          <p:spPr>
            <a:xfrm>
              <a:off x="517500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5588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3524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7796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16200000">
            <a:off x="-1560600" y="409932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. Andrew’s 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560" y="11253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505320" y="2349360"/>
            <a:ext cx="0" cy="317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092560" y="2349360"/>
            <a:ext cx="0" cy="317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8236080" y="5462640"/>
            <a:ext cx="672840" cy="947160"/>
            <a:chOff x="8236080" y="5462640"/>
            <a:chExt cx="672840" cy="947160"/>
          </a:xfrm>
        </p:grpSpPr>
        <p:pic>
          <p:nvPicPr>
            <p:cNvPr id="186" name="" descr=""/>
            <p:cNvPicPr/>
            <p:nvPr/>
          </p:nvPicPr>
          <p:blipFill>
            <a:blip r:embed="rId7"/>
            <a:stretch/>
          </p:blipFill>
          <p:spPr>
            <a:xfrm>
              <a:off x="8378640" y="5462640"/>
              <a:ext cx="46800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Puzzle1"/>
            <p:cNvSpPr/>
            <p:nvPr/>
          </p:nvSpPr>
          <p:spPr>
            <a:xfrm>
              <a:off x="8236080" y="6002280"/>
              <a:ext cx="672840" cy="40752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eated by Mr. Lafferty Maths Dept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C0D8EE-7AC1-43E4-A38D-A73C9FA908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6184800" y="2857320"/>
            <a:ext cx="0" cy="36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079960" y="2857320"/>
            <a:ext cx="0" cy="36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74840" y="2857320"/>
            <a:ext cx="0" cy="36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23280" y="2563920"/>
            <a:ext cx="5258160" cy="722160"/>
            <a:chOff x="2123280" y="2563920"/>
            <a:chExt cx="5258160" cy="722160"/>
          </a:xfrm>
        </p:grpSpPr>
        <p:grpSp>
          <p:nvGrpSpPr>
            <p:cNvPr id="192" name=""/>
            <p:cNvGrpSpPr/>
            <p:nvPr/>
          </p:nvGrpSpPr>
          <p:grpSpPr>
            <a:xfrm>
              <a:off x="2235240" y="2563920"/>
              <a:ext cx="1579680" cy="306360"/>
              <a:chOff x="2235240" y="2563920"/>
              <a:chExt cx="1579680" cy="306360"/>
            </a:xfrm>
          </p:grpSpPr>
          <p:sp>
            <p:nvSpPr>
              <p:cNvPr id="193" name=""/>
              <p:cNvSpPr/>
              <p:nvPr/>
            </p:nvSpPr>
            <p:spPr>
              <a:xfrm>
                <a:off x="223524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4808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6848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8312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9884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816360" y="2563920"/>
              <a:ext cx="1579680" cy="306360"/>
              <a:chOff x="3816360" y="2563920"/>
              <a:chExt cx="1579680" cy="306360"/>
            </a:xfrm>
          </p:grpSpPr>
          <p:sp>
            <p:nvSpPr>
              <p:cNvPr id="199" name=""/>
              <p:cNvSpPr/>
              <p:nvPr/>
            </p:nvSpPr>
            <p:spPr>
              <a:xfrm>
                <a:off x="381636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12920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4960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6424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07996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397480" y="2563920"/>
              <a:ext cx="1579680" cy="306360"/>
              <a:chOff x="5397480" y="2563920"/>
              <a:chExt cx="1579680" cy="30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539748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1032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3072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34536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6108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2123280" y="2917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£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20520" y="2917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£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7400" y="2917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£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07600" y="2917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£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741480" y="677880"/>
            <a:ext cx="16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-1560600" y="409932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. Andrew’s 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0560" y="11253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021400" y="3394080"/>
            <a:ext cx="6486840" cy="1258920"/>
            <a:chOff x="2021400" y="3394080"/>
            <a:chExt cx="6486840" cy="1258920"/>
          </a:xfrm>
        </p:grpSpPr>
        <p:sp>
          <p:nvSpPr>
            <p:cNvPr id="219" name=""/>
            <p:cNvSpPr/>
            <p:nvPr/>
          </p:nvSpPr>
          <p:spPr>
            <a:xfrm>
              <a:off x="2021400" y="3394080"/>
              <a:ext cx="606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Step 1:</a:t>
              </a: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Count the number of steps between number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18240" y="3851280"/>
              <a:ext cx="269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Step 2:</a:t>
              </a: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Do the divis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63960" y="4281480"/>
              <a:ext cx="39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“ </a:t>
              </a: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the difference between numbers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5905440" y="4272120"/>
            <a:ext cx="38124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05440" y="4272120"/>
                      <a:ext cx="381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6155640" y="4272120"/>
              <a:ext cx="23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by the  step numb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158200" y="201456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 the values of the arr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7760" y="4927680"/>
          <a:ext cx="152712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7760" y="4927680"/>
                    <a:ext cx="1527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 flipV="1">
            <a:off x="3809880" y="2552760"/>
            <a:ext cx="0" cy="317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97480" y="2552760"/>
            <a:ext cx="0" cy="317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6320" y="498168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ep 1 &amp;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99720" y="31813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£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78280" y="3181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£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59080" y="3181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£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eated by Mr. Lafferty Maths Dept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AF38F33-31E4-4CAA-8EFE-B0C6B4C8D6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741480" y="677880"/>
            <a:ext cx="16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-1560600" y="409932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. Andrew’s 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50560" y="11253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15360" y="2589120"/>
            <a:ext cx="5476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Your turn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age 46 Exercise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Worksheet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eated by Mr. Lafferty Maths Dept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5E0B0FF-A7D4-49AF-900D-9A613FC55C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Bernie Lafferty</cp:lastModifiedBy>
  <dcterms:modified xsi:type="dcterms:W3CDTF">2006-05-04T10:48:28Z</dcterms:modified>
  <cp:revision>9</cp:revision>
  <dc:subject/>
  <dc:title>Slide 1</dc:title>
</cp:coreProperties>
</file>